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599BD-139D-4C63-B21B-F9C927DDA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6BE2D-2DFC-4DE5-815F-02387C6E2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DA577-4D8C-475A-AFCF-33E562BBA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DD753-14F0-4EE2-8915-C325F0F38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3C240-D98F-4813-BEEA-6B5E335E3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901C2-39C3-4334-8820-64F01E9A8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CCCA6-A9C9-4C84-A74D-EA588ACB5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7B988-5F19-4F8C-ADE9-ACC97B25C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1C86A-542E-4944-BF76-E41312F09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FC08D-3A68-4704-A40E-D251477A9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C15FE-D848-4B21-B094-666EFF05F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9AE59-F9E4-49D6-9D9C-F4F24E8B6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44E9-7971-4351-A644-6488605CC2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a:t>
            </a:r>
            <a:r>
              <a:rPr b="0" i="1" lang="en-GB" sz="1000" spc="-1" strike="noStrike">
                <a:solidFill>
                  <a:srgbClr val="000000"/>
                </a:solidFill>
                <a:latin typeface="Arial"/>
              </a:rPr>
              <a:t>B</a:t>
            </a:r>
            <a:r>
              <a:rPr b="0" i="1" lang="ro-RO" sz="1000" spc="-1" strike="noStrike">
                <a:solidFill>
                  <a:srgbClr val="000000"/>
                </a:solidFill>
                <a:latin typeface="Arial"/>
              </a:rPr>
              <a:t>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a:t>
            </a:r>
            <a:r>
              <a:rPr b="0" lang="ro-RO" sz="1000" spc="-1" strike="noStrike">
                <a:solidFill>
                  <a:srgbClr val="000000"/>
                </a:solidFill>
                <a:latin typeface="Arial"/>
              </a:rPr>
              <a:t>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numărul de specii biologice. </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unitatea lumii vii,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mecanismului eredităţii.</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o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i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20Z</dcterms:modified>
  <cp:revision>32</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